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68B68A-F49D-4981-AB79-1EF9D709D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C584C9-E25C-46D7-9249-C3B533B73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E68F35-B4FC-4A41-967D-281882C8C1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5F142D-D174-4B44-9121-763C03FE2B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B12B7-7E4B-49C2-8567-46CF73F1A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79E9D-14D0-4B9F-8CCC-1EBB3D527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B3A8E-9C56-435E-AAD1-EBCF4C8D3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92301-EBC3-4B5D-9322-3627B3A41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26BC4-F508-4F8C-919C-2803A75FD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CE582-AAA7-45DC-BC4E-7279D8466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1AFF3-C702-43EE-93FC-1466CEF0B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FA5F71-47E7-4A47-BAB3-1EA832ED7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85ACE-EFBE-4B52-BFCD-5886D564B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F5253-C42D-4CF4-82D8-E8D2C3FE2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ABA34-B434-4E1B-85CF-3622A9258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A2259-E0C4-41CE-B7CA-A62952BC4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ADBC6-C596-4177-A766-CA0B48A31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BD40F0-B3E2-4554-B9D6-73CD4E37F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5BC488-647C-40E6-83FC-1744F8396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868D0D-97AF-4F3E-8632-8F9E6C1D3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3B0479-B516-496E-BD44-FF846280C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5AD46C-42F4-4570-8578-BFD5212E7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35F82B-BAFE-4CAB-B56C-FD26762DC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142114-A002-4574-B2AE-EA75CDFA6F9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C312-6A79-4051-9533-278834AE3A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07E9-89BB-4810-B600-8DF366D55B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Arial"/>
              </a:rPr>
              <a:t>Software Inspections – 4 </a:t>
            </a:r>
            <a:br>
              <a:rPr sz="3400"/>
            </a:br>
            <a:r>
              <a:rPr b="0" lang="en-US" sz="3400" spc="-1" strike="noStrike">
                <a:solidFill>
                  <a:srgbClr val="00007d"/>
                </a:solidFill>
                <a:latin typeface="Arial"/>
              </a:rPr>
              <a:t>– Inspection Process</a:t>
            </a:r>
            <a:endParaRPr b="0" lang="en-US" sz="3400" spc="-1" strike="noStrike">
              <a:solidFill>
                <a:srgbClr val="000000"/>
              </a:solidFill>
              <a:latin typeface="Arial"/>
            </a:endParaRPr>
          </a:p>
        </p:txBody>
      </p:sp>
      <p:sp>
        <p:nvSpPr>
          <p:cNvPr id="106"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18</a:t>
            </a:r>
            <a:endParaRPr b="0" lang="en-US" sz="3400" spc="-1" strike="noStrike">
              <a:solidFill>
                <a:srgbClr val="000000"/>
              </a:solidFill>
              <a:latin typeface="Arial"/>
            </a:endParaRPr>
          </a:p>
        </p:txBody>
      </p:sp>
      <p:sp>
        <p:nvSpPr>
          <p:cNvPr id="1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88A8-B116-4DC8-BF6A-9D0C670289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CC16-7F25-49D8-B3B4-34368D576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 Entry Criteria - 4</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ecessor and dependent work products are available, have been inspected, and meet exit criteria</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rator and producer have defined the coverage of material to be inspect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roducts allow easy identification of defects by location in the materia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rator agrees that the work product is inspec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86F5-6464-43AA-97D5-C8E7BDC762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 Tasks - 1</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inspector uses the scheduled time to complete the preparation in a style and format they are comfortable wit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terial to be inspected is marked with questions, concerns, and possible defects, both major and minor, found during insp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AD33-0A10-4B3F-ADC6-2D8974C0FB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 Tasks - 2</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nor defects are either recorded on a separate sheet that will be delivered to the moderator at the start of the inspection meeting or they are clearly noted in the marked material that will be delivered to the moderator at the end of the inspection meeting. Each minor defect should be noted by location in the work product when using a minor l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135D-D83E-4364-87D3-1A228C1AB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ation: Validation/Verification - 1</a:t>
            </a:r>
            <a:endParaRPr b="0" lang="en-US" sz="32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uses the preparation entry criteria and procedu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uses the minor defect information to determine if all inspectors have properly performed prepar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ors have confirmed that they have prepa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E1B4-5604-4555-97FA-FB5139212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paration: Validation/Verification - 2</a:t>
            </a:r>
            <a:endParaRPr b="0" lang="en-US" sz="32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A group ensures that the moderator has used the preparation procedure and that the inspectors performed sufficient preparation. This can be done via audits of the process records or sampling of inspe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EF09-FBEA-496F-BFD4-70CFA922F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paration: Validation/Verification - 3</a:t>
            </a:r>
            <a:endParaRPr b="0" lang="en-US" sz="36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gathered in this activity</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time was spent in preparation</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a period between notification of the inspection and the preparation</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inspection meetings required rescheduling due to insufficient preparation</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major and minor defects found during prepa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9584-B5F4-4337-80BC-032F4E139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 Exit Criteria</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inspector has completed sufficient preparation based on organization and project preparation time criter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 defect inputs are comple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notes are recorded on the work product materials or defect l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3F2C-CDF1-4D31-9557-9BCBA93CC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Meeting - 1</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defects before work product is passed into the next project sta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discussions are held in the inspection me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2D14-BBC2-4324-892B-561E6C39C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Meeting - 2</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ntified defect is agreed to be a defect, or at least a potential defect, by the inspection team, including the produc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discussion item cannot be agreed to be a defect, it should be noted as an open issue to be resolved after the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3884-0715-4F0F-A4DC-7107EBE29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Meeting - 3</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ect can be classified by class, severity, and typ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ect can be described crisply but sufficien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 and Today’s Lecture: Inspection Process</a:t>
            </a:r>
            <a:endParaRPr b="0" lang="en-US" sz="4400" spc="-1" strike="noStrike">
              <a:solidFill>
                <a:srgbClr val="000000"/>
              </a:solidFill>
              <a:latin typeface="Arial"/>
            </a:endParaRPr>
          </a:p>
        </p:txBody>
      </p:sp>
      <p:sp>
        <p:nvSpPr>
          <p:cNvPr id="109"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anning and scheduling</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verview</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Preparation</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Inspection meeting</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Analysis meeting</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ork</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up</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meeting</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cording and reports</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ection process monitoring</a:t>
            </a:r>
            <a:endParaRPr b="0" lang="en-US" sz="2400" spc="-1" strike="noStrike">
              <a:solidFill>
                <a:srgbClr val="000000"/>
              </a:solidFill>
              <a:latin typeface="Arial"/>
            </a:endParaRPr>
          </a:p>
        </p:txBody>
      </p:sp>
      <p:sp>
        <p:nvSpPr>
          <p:cNvPr id="1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40C0-79BD-435C-A9A2-7754CC6EC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6D39-44F0-4EE0-9592-B33A12BB3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Meeting - 4</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meeting has schedule and entry requirements. If inspectors are late by ten minutes, postponement should be consider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itical inspectors include the moderator, producer, and read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1D57-D6C1-4E5C-AD3A-39FFD938C1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Meeting: Responsibility</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is responsible for managing an effective and efficient me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5107-D373-4C18-A25F-71395E3DD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Meeting: Other Roles - 1</a:t>
            </a:r>
            <a:endParaRPr b="0" lang="en-US" sz="40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 is responsible for the inspected work product, answering questions, and concurring on identified defects or adequately explaining to the inspection team’s agreement why the identified possible defect is not a de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AC3D-683A-48E1-8F74-72A9FA01C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Meeting: Other Roles - 2</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der is responsible for focusing and pacing the inspection meeting by leading the team through the material</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corder is responsible for correctly recording all identified defects and open issue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nspectors, including the producer, are responsible for sharing their questions and identified defects found during preparation, and work together to find more defects in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9B70-6902-4BBF-BA6D-527AA0C98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pection Meeting: Entry Criteria - 1</a:t>
            </a:r>
            <a:endParaRPr b="0" lang="en-US" sz="32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team members are sufficiently present in number and role assign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 materials were available for preparation with sufficient time for study and review before the inspection meeting, including necessary reference mate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E899-7747-4BD3-BD62-F34240D6B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pection Meeting: Entry Criteria - 2</a:t>
            </a:r>
            <a:endParaRPr b="0" lang="en-US" sz="32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ors have adequately prepar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ors have submitted their minor defects list at the start of the meeting or have marked the work products that will be provided at the end of the mee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of the inspection meeting has been def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323E-0EDB-480B-9CDF-41981563E2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pection Meeting: Entry Criteria - 3</a:t>
            </a:r>
            <a:endParaRPr b="0" lang="en-US" sz="32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er and a data recording system are availa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roles; e.g., reader have been assign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 has identified any new potential problem a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65D1-3CA5-4D35-8E51-2585C2ECF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Meeting: Tasks - 1</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 introduction (modera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dness check (modera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work product (rea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defects (inspecto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defects (record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C5F5-23C1-4F69-845B-364CD15E8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Meeting: Tasks - 2</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disposition of material (inspection team)</a:t>
            </a:r>
            <a:endParaRPr b="0" lang="en-US" sz="32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the material</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the material after verification with follow-up inspector</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the work product to be re-inspected after rework</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 re-engineering of the work product followed by a new insp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0348-6519-4057-A929-C89EDE3FE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Meeting: Validation/Verification - 1</a:t>
            </a:r>
            <a:endParaRPr b="0" lang="en-US" sz="40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rator, using the inspection meeting entry criteria and procedure, determines if the team has properly performed the inspection</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pectors participated in an effective meeting</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QA group ensures that inspection meeting procedure and that the inspectors performed sufficient preparation. This can be done via audits of the process records or sampling of inspe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52B1-733A-473F-A115-C1626548C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 - 1</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time for the inspection participants to sufficiently prepare for the inspection meeting and list potential def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317D-8518-4E3C-88D7-45092296A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Meeting: Validation/Verification - 2</a:t>
            </a:r>
            <a:endParaRPr b="0" lang="en-US" sz="40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gathered during this activity</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time was spent in the inspection meeting</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a period between the preparation and the inspection meeting</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inspection meetings required rescheduling due to insufficient preparation</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inspections required re-insp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A18C-4059-49D4-AB19-44DDD1C035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Meeting: Validation/Verification - 3</a:t>
            </a:r>
            <a:endParaRPr b="0" lang="en-US" sz="40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defects were foun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the meeting took</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inspectors were in atten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1FA0-33B4-432F-9216-EAF22B3D10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Meeting: Exit Criteria - 1</a:t>
            </a:r>
            <a:endParaRPr b="0" lang="en-US" sz="40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materials have been inspected and coverage of the work product is completed as plann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results fall within expected tolerance of performance for</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spent during preparation</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spent at the inspection meeting</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den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A05F-3E8C-4516-AD81-766D2AC99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Meeting: Exit Criteria - 2</a:t>
            </a:r>
            <a:endParaRPr b="0" lang="en-US" sz="4000" spc="-1" strike="noStrike">
              <a:solidFill>
                <a:srgbClr val="000000"/>
              </a:solidFill>
              <a:latin typeface="Arial"/>
            </a:endParaRPr>
          </a:p>
        </p:txBody>
      </p:sp>
      <p:sp>
        <p:nvSpPr>
          <p:cNvPr id="20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ects and the conduct of the inspection have been recorded and the team concurs with the conten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 have been recorded for follow-up during rework</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or a designee has been appointed to perform follow-up with the produ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2B0F-83A4-4DC7-81B2-59FB7446F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Meeting: Exit Criteria - 3</a:t>
            </a:r>
            <a:endParaRPr b="0" lang="en-US" sz="40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s available to update the process data bas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ssociated deviations or risks are noted</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to re-inspect or not have been reviewed against criteria</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on re-engineering has been add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636E-9A93-4620-82F8-5EF1887715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Meeting: Exit Criteria - 4</a:t>
            </a:r>
            <a:endParaRPr b="0" lang="en-US" sz="40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defects have been recorded, as appropriate, as well as product def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cations of the defects of the inspected work product are clearly noted to facilitate repai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cision is taken on the timeframe by which defect repairs and open issues will be resolv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pection satisfies the criteria to be indicated as perform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E5B4-91DC-4E07-86C2-F7247CE59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Meeting</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held after the inspection meeting, to begin defect prevention activ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ctivity was not part of the original inspe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216D-2845-4C87-B209-049306E2B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Meeting: Responsibility</a:t>
            </a:r>
            <a:endParaRPr b="0" lang="en-US" sz="4400" spc="-1" strike="noStrike">
              <a:solidFill>
                <a:srgbClr val="000000"/>
              </a:solidFill>
              <a:latin typeface="Arial"/>
            </a:endParaRPr>
          </a:p>
        </p:txBody>
      </p:sp>
      <p:sp>
        <p:nvSpPr>
          <p:cNvPr id="21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with the project lead determines whether this activity will be perfo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0759-1413-4EB1-B3E1-760E842A3D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Meeting: Other Roles</a:t>
            </a:r>
            <a:endParaRPr b="0" lang="en-US" sz="4400" spc="-1" strike="noStrike">
              <a:solidFill>
                <a:srgbClr val="000000"/>
              </a:solidFill>
              <a:latin typeface="Arial"/>
            </a:endParaRPr>
          </a:p>
        </p:txBody>
      </p:sp>
      <p:sp>
        <p:nvSpPr>
          <p:cNvPr id="2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 should be willing to accept open input from the inspection team regarding the potential causes of the identified de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6582-6109-4249-ADC4-3AC9169AE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Meeting: Entry Criteria</a:t>
            </a: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lead and moderator have chosen this activity to be perform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pection team has been trained in causal analysis techniques. Training in team dynamics and group behavior can be helpfu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defects have been found during the inspec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fect taxonomy or set of cause categories has been def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EF88-696F-423C-8FFE-FF52F327FA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 - 2</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preparation the inspectors should:</a:t>
            </a:r>
            <a:endParaRPr b="0" lang="en-US" sz="32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their understanding of the material</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 the work product using the checklist appropriate to the work product</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ossible defects that will be discussed at the inspection meeting</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list of minor defects and provide them to the producer</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e amount of time spent in this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214F-13DF-4ACA-BEE4-4D2416389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Meeting: Tasks</a:t>
            </a: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he defects to discuss</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potential causes of the defects discussed</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corder will record the analysis meeting results and provide them to the inspection coordinator or SEPG as input for process improvement consideration within the organization at the prevention me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7A5E-4EB1-4AD0-BDCE-D4DA04BF5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Meeting: Validation/Verification - 1</a:t>
            </a:r>
            <a:endParaRPr b="0" lang="en-US" sz="40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anchor="t">
            <a:normAutofit fontScale="89000"/>
          </a:bodyPr>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rator uses the analysis meeting entry criteria and procedure to determine if all inspectors have properly participated and the meeting was effective</a:t>
            </a: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pectors have participated</a:t>
            </a:r>
            <a:endParaRPr b="0" lang="en-US" sz="28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cannot participate, they must notify the moderator at the start of the inspection meeting</a:t>
            </a:r>
            <a:endParaRPr b="0" lang="en-US" sz="24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QA group ensures that the moderator has used the Analysis meeting checklist and reviews the recorder’s report for sufficiency. Aud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BFCA-9480-47AF-9C24-BDF45E2DAA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Meeting: Validation/Verification - 2</a:t>
            </a:r>
            <a:endParaRPr b="0" lang="en-US" sz="4000" spc="-1" strike="noStrike">
              <a:solidFill>
                <a:srgbClr val="000000"/>
              </a:solidFill>
              <a:latin typeface="Arial"/>
            </a:endParaRPr>
          </a:p>
        </p:txBody>
      </p:sp>
      <p:sp>
        <p:nvSpPr>
          <p:cNvPr id="2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gathered during this activ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time was spent in the analysis mee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defects were discuss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defects were assigned ca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1517-7A4B-4B49-979E-E83C1D7488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Meeting: Exit Criteria</a:t>
            </a: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lysis meeting records have been comple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s provided to the SEPG or inspections coordin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8C3B-460D-4CE8-94DF-60E000B245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ve discussed Preparation, Inspection meeting, and Analysis meeting of the software inspections process in this l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273A-8AFC-4C5D-BEBA-5F83A0B9DF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Inspections by Ronald A. Radice, Tata-McGraw Hill, 2003 (Chapter 3.5-3.7)</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AC19-3A6F-4B34-8762-79A166534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 Responsibility</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responsibility is with the inspectors to ensure they have properly prepared for the inspection meeting</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inspector cannot prepare sufficiently, the moderator must be notified immediately and a backup inspector selected</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pection meeting may have to be cancelled in those situations if backup inspector is not available</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should be recorded to learn during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7E7E-9707-4563-A562-70FBFFC918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 Other Roles</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rator should first estimate the preparation time needed for the inspection based on the material to be inspected. These estimates should be verified with the inspection team participa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rator needs to get a commitment from each participant that enough time is allocated and that it will be sufficient for him/her to prep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D9E0-0B17-4804-94D8-E1290D681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 Entry Criteria - 1</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view, if needed, has been satisfactorily comple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open issues identified for the overview have been closed and addressed in the work product or are documented as open issues and provided as ancillary material for the prepa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F5EB-EC72-4F8B-8F08-D7A82DB32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 Entry Criteria - 2</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 not closed are documented for tracking within the change control system used by the pro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 determines that the work product is ready for inspec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 product has reached closure and the code complies with defined standards, style guides, and templates for form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E588-528C-42A2-A016-BD88DF4D90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ation: Entry Criteria - 3</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necessary ancillary material have been made available well in advanc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 product includes all base-lined function and approved changes for this planned work product completion dat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time needed for preparation has been confirmed with the inspectors and is available to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5:43:24Z</dcterms:created>
  <dc:creator>Ghulam Ahmad Farrukh</dc:creator>
  <dc:description/>
  <dc:language>en-US</dc:language>
  <cp:lastModifiedBy>ahmadmohsin</cp:lastModifiedBy>
  <dcterms:modified xsi:type="dcterms:W3CDTF">2009-05-30T04:26:17Z</dcterms:modified>
  <cp:revision>432</cp:revision>
  <dc:subject/>
  <dc:title>Software Inspections</dc:title>
</cp:coreProperties>
</file>